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7840" y="5493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utr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2" idx="3"/>
            <a:endCxn id="154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5" name=""/>
          <p:cNvCxnSpPr>
            <a:stCxn id="152" idx="3"/>
            <a:endCxn id="15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7" name=""/>
          <p:cNvCxnSpPr>
            <a:stCxn id="152" idx="3"/>
            <a:endCxn id="158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3400" y="54936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mit Linksverschiebung &gt;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immunkrankh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960" y="549360"/>
            <a:ext cx="70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mit Linksverschiebung &gt; Entzündung &gt;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kterielle 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 in Regener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oo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isi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014840" y="54936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ohne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ap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nochenmarks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aption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s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720" y="549360"/>
            <a:ext cx="76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daption des Knochenmarks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ronischen Verbrau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 bakteriel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fek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isie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8360" y="54936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ntralisierung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ukozytenadhäs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schleun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endCxn id="11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7" idx="3"/>
            <a:endCxn id="12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örung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ukozytenadhäs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8520" y="549360"/>
            <a:ext cx="65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ntralisierung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enpool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s Leukozytenadhäsionsprotei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4" idx="3"/>
            <a:endCxn id="1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geb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rish Sett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3" idx="3"/>
            <a:endCxn id="13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7800" y="549360"/>
            <a:ext cx="67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ntralisierung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enpool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s Leukozytenadhäsionsprotein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worb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7800" y="549360"/>
            <a:ext cx="67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ntralisierung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enpool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törung des Leukozytenadhäsionsprotein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worbe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schleunigung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98360" y="54936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entralisierung d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hilenpool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Beschleunigung des Blutfluss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8" idx="3"/>
            <a:endCxn id="14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13760" y="5493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02:20Z</dcterms:modified>
  <cp:revision>327</cp:revision>
  <dc:subject/>
  <dc:title>Vorstellung einer Neuheit</dc:title>
</cp:coreProperties>
</file>